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23760" y="-14400"/>
            <a:ext cx="10182240" cy="76392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>
            <a:hlinkClick r:id="" action="ppaction://hlinkshowjump?jump=nextslide"/>
          </p:cNvPr>
          <p:cNvSpPr/>
          <p:nvPr/>
        </p:nvSpPr>
        <p:spPr>
          <a:xfrm>
            <a:off x="122400" y="1440"/>
            <a:ext cx="73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merica Supports Cuba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14">
            <a:hlinkClick r:id="" action="ppaction://hlinkshowjump?jump=nextslide"/>
          </p:cNvPr>
          <p:cNvSpPr/>
          <p:nvPr/>
        </p:nvSpPr>
        <p:spPr>
          <a:xfrm>
            <a:off x="944640" y="1808280"/>
            <a:ext cx="83120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uban rebellion, February 1895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Official U.S. neutrality despite economic interest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Rebels destroyed American property to bring American intervention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panish atrocities and “reconcentration camps” enraged American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Reports i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New York Wor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New York Journa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ueled U.S. fire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dc:language>en-US</dc:language>
  <cp:lastModifiedBy>Sacerdote, Kevin R.</cp:lastModifiedBy>
  <dcterms:modified xsi:type="dcterms:W3CDTF">2015-11-01T18:45:19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